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3B50-9193-4FB1-8635-468169C9A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E59B-178C-411A-B5D2-7E0E8F3FBC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953E-D7AB-4328-89FC-45A592A8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C8FB-2161-4ED1-931F-66B281D1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4B16-5A1D-4B6E-BCE5-9B5E376C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F694-F464-45A9-B696-95FD0585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701A-F9E7-4621-A988-6275E5B1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050A-7675-4C11-A242-1CFFFAF9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6076-90FF-4A43-BA71-01188804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90FB-13DA-439F-92C2-E577560A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593C-E8CF-4555-8641-88C5A075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72E2-9D49-44E0-BF3A-77241E58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2594-3A09-4C86-90E6-8C03E19E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B58E-7A2B-47F0-AEFE-0B710E58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3E5D-7C9C-47FB-8C91-8C110993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8CE6-A5D0-44E3-A3E1-8103D370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3790-2F14-4488-97C6-ACDDCC7B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05FA-6C4F-47F9-9475-E7A2F1A4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2D39-45EA-45DE-AE14-CE5610AA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D89B-B97A-4E72-8D07-76F69DB6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F5BE-B248-4CA8-838E-7B433E2D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BC17-8A44-41DA-BAF5-CF58D319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3636-BA0C-42A4-AB12-D02152AF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9D06-3E05-4656-800E-0F7D49AD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8CF8-7A44-4426-A472-F33EC68B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EECB-91C9-4996-A4FC-39A5D0F5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C337-3978-4A11-8962-B4712C40CC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9254-2A1D-406F-B2C8-A9A0D9277C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event_214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ultural Diversity in German Speaking Countrie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ltural Assimilation in German Speaking Coun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: Brian Beck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ncsl.org/IssuesResearch/Immigration/ImmigrantPolicyProjectRecentImmigrationDevel/tabid/13140/Default.asp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jstor.org/pss/21723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bss.sfsu.edu/polisci/documents/Impacts%20of%20Assimulation%20Concepts%20of%20Citizenship%20in%20Germany.pd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ag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ww.deseretnews.com/photos/midres/web-416875.jp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ww.spiegel.de/img/0,1020,1408830,00.jp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tthewbrunwasser.com/wp-content/uploads/2010.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ours.360wichita.com/16240/event_21417.jp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s:/.../1284944661/Map_1914_WWI_Alliances.jp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ist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ajority of post-WWII immigrants were Russian Jew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rmany’s original policy was to form a unified German people through a similar German cult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imilation became difficult after the 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entury warfare, due to changes in territorial bord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10" descr="map36wii"/>
          <p:cNvPicPr/>
          <p:nvPr/>
        </p:nvPicPr>
        <p:blipFill>
          <a:blip r:embed="rId1"/>
          <a:stretch/>
        </p:blipFill>
        <p:spPr>
          <a:xfrm>
            <a:off x="4648320" y="1600200"/>
            <a:ext cx="4057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istory (cont.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ederal Expellee and Refugee Law of 1953 ensured only ethnic Germans were allowed back in German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debated whether or not German speaking countries should be unified, and has been since the Holy Roman Empire’s cre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l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ently, Turkish Muslims are the largest influx of people into Germany, due to their need for job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y resent Germany’s immigration policy for it tries to force Muslim’s to adopt German culture, which they don’t wa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y Turk’s forego the immigration process by participating as “guest workers”, and after a certain amount of time gaining citizenship for themselves and their famili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43430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6" descr="0,1020,1408830,00"/>
          <p:cNvPicPr/>
          <p:nvPr/>
        </p:nvPicPr>
        <p:blipFill>
          <a:blip r:embed="rId1"/>
          <a:stretch/>
        </p:blipFill>
        <p:spPr>
          <a:xfrm>
            <a:off x="1219320" y="4343400"/>
            <a:ext cx="209556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german-turks-with-flag"/>
          <p:cNvPicPr/>
          <p:nvPr/>
        </p:nvPicPr>
        <p:blipFill>
          <a:blip r:embed="rId2"/>
          <a:stretch/>
        </p:blipFill>
        <p:spPr>
          <a:xfrm>
            <a:off x="4419720" y="4343400"/>
            <a:ext cx="4171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ltures (cont.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WWII, Russian Jews were the major immigrants into Germany in an attempt to escape communist discrimin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, Judaism is one of Germany’s primary religions, and the Jewish people have become a major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rrent German Polic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January of 2001, Germany created a “birthright policy”, which gave citizenship to those born in the count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ly of that year, Germany instituted a green card policy which immediately brought about 9,000 IT specialists to German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8" descr="German Chancellor Angela Merkel reads files at the beginning the weekly cabinet meeting at the chancellery in Berlin, Germany, Wednesday, March 23, 2011. 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rrent German Policies (cont.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rman immigration policies revolve around Labor Migrants, Asylum Seekers, Ethnic Germans, and Contingent Refuge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rman law follows the original edict of the Geneva Convention, which provides safety to foreign refuge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December of 2000, Germany created an employment ban on asylum seekers which limits their work to 12 months and that only if no German citizen is available to take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religious people are currently immigrating to German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are Germans responding to the increase in foreign citizen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slamic People or Turkish Musli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rmans are opposed to the number of foreigners in German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3:23:19Z</dcterms:created>
  <dc:creator>SCSadmin</dc:creator>
  <dc:description/>
  <dc:language>en-US</dc:language>
  <cp:lastModifiedBy>User</cp:lastModifiedBy>
  <dcterms:modified xsi:type="dcterms:W3CDTF">2011-09-10T11:54:18Z</dcterms:modified>
  <cp:revision>6</cp:revision>
  <dc:subject/>
  <dc:title>Cultural Diversity in German Speaking Countries</dc:title>
</cp:coreProperties>
</file>